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8A7-F643-436C-9C19-1E921A73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AC9-1DBB-4379-9413-F651A4D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F37-12DA-46EE-990B-4C57FB7F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6B5-ED4F-4476-93F6-9B40F24B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3D3-1AFF-49A6-8AEF-80EE0AE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51A-B615-4F88-9045-BBB6F9A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578-089F-4138-89E9-694B2BE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D8C-9BE5-48E9-8223-E0F4512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076-DE39-4BD5-8D22-9D1E506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1F4-FFA1-4B72-A65D-9F3E30B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78D-D21F-4942-BA6C-940AAB6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E8F-AE9F-4F7E-AAB8-6DF1FC9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0F0-939B-437E-940E-41CEB39AD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b400"/>
                </a:solidFill>
                <a:latin typeface="Arial"/>
              </a:rPr>
              <a:t>Me llamo ________________ Clase 6NM</a:t>
            </a:r>
            <a:br>
              <a:rPr sz="3600"/>
            </a:br>
            <a:r>
              <a:rPr b="0" lang="en-US" sz="3600" spc="-1" strike="noStrike">
                <a:solidFill>
                  <a:srgbClr val="ccb400"/>
                </a:solidFill>
                <a:latin typeface="Arial"/>
              </a:rPr>
              <a:t>La fecha es el 23 de septiembre del 2011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c9ea0"/>
                </a:solidFill>
                <a:latin typeface="Arial"/>
              </a:rPr>
              <a:t>Propósito # 4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¿De qué consiste el abeced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c9ea0"/>
                </a:solidFill>
                <a:latin typeface="Arial"/>
              </a:rPr>
              <a:t>Actividad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8c9ea0"/>
                </a:solidFill>
                <a:latin typeface="Arial"/>
              </a:rPr>
              <a:t>Ini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cribe una palabra para cada letra del alfabe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Ñ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9ea0"/>
                </a:solidFill>
                <a:latin typeface="Arial"/>
              </a:rPr>
              <a:t>Fonema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onem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 las letras del abecedario o alfab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abecedario en español tiene 27 letras.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Ñ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letra adi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abecedario se divide en 2 par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 conson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voc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9ea0"/>
                </a:solidFill>
                <a:latin typeface="Arial"/>
              </a:rPr>
              <a:t>Vocal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oc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: A E I O 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vocales se dividen en dos par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ocales abiertas o fue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ocales cerradas o déb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ocales abiert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E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ocales cerrad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9ea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cierra las vocales abiertas y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ubray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as vocales cer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 l   p e r r o   d e   D o n   S e r a f í n   e s   c a f 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 o r   d e b a j o   d e   l a   v e n t a n a   h a y         u n   l o r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 o ñ a   S a r a   l u c í a   u n   v i s t o s o                              c o l l a 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95280"/>
            <a:ext cx="1676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9ea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usca un articulo pequeño (periódico, revista, libro, volante), encierra las vocales abiertas 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ubray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vocales cerradas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égalo en tu cua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7:22:35Z</dcterms:created>
  <dc:creator>Helen Zumaeta</dc:creator>
  <dc:description/>
  <dc:language>en-US</dc:language>
  <cp:lastModifiedBy>Helen Zumaeta</cp:lastModifiedBy>
  <dcterms:modified xsi:type="dcterms:W3CDTF">2011-09-26T03:48:48Z</dcterms:modified>
  <cp:revision>7</cp:revision>
  <dc:subject/>
  <dc:title>Me llamo ________________ Clase 6NM La fecha es el 23 de septiembre del 2011</dc:title>
</cp:coreProperties>
</file>